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28.jpeg" ContentType="image/jpeg"/>
  <Override PartName="/ppt/media/image3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4.jpeg" ContentType="image/jpeg"/>
  <Override PartName="/ppt/media/image13.png" ContentType="image/png"/>
  <Override PartName="/ppt/media/image27.jpeg" ContentType="image/jpeg"/>
  <Override PartName="/ppt/media/image52.png" ContentType="image/png"/>
  <Override PartName="/ppt/media/image50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C19-04F3-4290-8E38-E11451B9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573-2819-4C43-8B7B-C0A1E6EA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9F3-AF1A-4A23-8344-80579C54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1B4-EFBA-4D3B-A0EF-0F6D908A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84DD-A126-4207-B160-54DC6665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5548-3EDE-4B75-B8CA-FA4BC373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7AB5-31A3-4528-826B-F70B85A1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7423-A086-494B-B687-1C96BB9B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9DB2-67AE-4AE5-B6B1-64FDDBA3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56AC-E71C-4ACB-89AC-8C1CA94E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562A-4A73-466C-98A9-E588BE0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F38-919A-42EE-840A-19EBFE00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F92C-1599-412B-96AE-9A20139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5A17-16FA-4D0E-9A9F-D0E73AC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190C-6FDD-4D63-B9CD-3C73F85E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ED0F-5F15-4B7D-9D14-3CE1D125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D128-1A33-4C6B-8EED-75783932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67FD-0A08-4173-9A0A-FD215B9E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ED99D-FD86-4C17-84FD-DA75466D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F36E-260E-47F0-A3BC-39DB7BC4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1334-2711-4E04-A4A6-23CD844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A89B-FBA7-4A5A-B6DA-3786958B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3B5-DD6B-4F34-AF7F-2106A3E1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8822-D743-45CA-928F-3A238B00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BC73-263D-4357-AEB0-4BC89F7E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7245-E9CD-4867-B779-04349B5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7F60-4066-4A64-8251-B6B9CD3F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A998-70E9-4B60-AA88-18373E13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1EFD-7052-40EE-90F6-B203E8E7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E7BA-F88F-4A42-BF19-E70FF629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0D4-6EF7-464C-B6C5-7AE989EB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58C-EF76-4910-B9E4-7DDB9C0C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E35-EB5D-4372-A4E6-529291BB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3A0-CD01-4F9E-A1EC-E8D3E0E7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B48-881C-4885-BD4C-C30D2FD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7E3-7780-447D-90CA-1EB4491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889D-12DF-42B7-A3B6-74C39E3CF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09D0-2F11-4A18-BCB1-ED493FAE5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DD8-B544-40D9-9F98-E17DFBCA2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hem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177840" y="2637000"/>
            <a:ext cx="9140760" cy="26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华文彩云"/>
                <a:ea typeface="华文彩云"/>
              </a:rPr>
              <a:t>走进化学实验室 </a:t>
            </a:r>
            <a:br>
              <a:rPr sz="6600"/>
            </a:br>
            <a:br>
              <a:rPr sz="6600"/>
            </a:b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学实验基本操作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66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715000" y="777960"/>
            <a:ext cx="3124080" cy="2498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4920" y="914400"/>
            <a:ext cx="5257800" cy="5814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思考】 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拿细口瓶倒液体时，为什么贴标签的一面要朝向手心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2590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答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防止残留的液体流下腐蚀标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886200"/>
            <a:ext cx="8001000" cy="5814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思考】 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倒完液体后，为什么要立即盖紧瓶塞，并把瓶子放回原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440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答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防止药液挥发和避免试剂受到污染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便下次使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1523880"/>
            <a:ext cx="2590920" cy="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457200"/>
            <a:ext cx="4876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量取一定量的液体药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334120" y="1424160"/>
            <a:ext cx="3429000" cy="1928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80880" y="1219320"/>
            <a:ext cx="4648320" cy="161748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注意事项】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量筒必须放平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读数时视线要与量筒内液体的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凹液面的最底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保持水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14400" y="3886200"/>
            <a:ext cx="2867760" cy="2371680"/>
            <a:chOff x="914400" y="3886200"/>
            <a:chExt cx="2867760" cy="237168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914400" y="3886200"/>
              <a:ext cx="172404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254600" y="573732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俯视读数会使测量值偏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952880" y="3878280"/>
            <a:ext cx="3176640" cy="2371680"/>
            <a:chOff x="4952880" y="3878280"/>
            <a:chExt cx="3176640" cy="2371680"/>
          </a:xfrm>
        </p:grpSpPr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4952880" y="3878280"/>
              <a:ext cx="174312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601960" y="57294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仰视读数会使测量值偏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324480" y="2590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9360"/>
            <a:ext cx="576360" cy="3585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58560"/>
              <a:gd name="textAreaBottom" fmla="*/ 33624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57" y="1350"/>
                </a:lnTo>
                <a:lnTo>
                  <a:pt x="1350" y="135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57" y="20250"/>
                </a:lnTo>
                <a:lnTo>
                  <a:pt x="33357" y="135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357" y="2025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707" h="21600">
                <a:moveTo>
                  <a:pt x="10310" y="7283"/>
                </a:moveTo>
                <a:lnTo>
                  <a:pt x="11229" y="7283"/>
                </a:lnTo>
                <a:lnTo>
                  <a:pt x="11614" y="7650"/>
                </a:lnTo>
                <a:lnTo>
                  <a:pt x="20871" y="7650"/>
                </a:lnTo>
                <a:lnTo>
                  <a:pt x="21431" y="8210"/>
                </a:lnTo>
                <a:lnTo>
                  <a:pt x="21431" y="8761"/>
                </a:lnTo>
                <a:lnTo>
                  <a:pt x="23286" y="8761"/>
                </a:lnTo>
                <a:lnTo>
                  <a:pt x="23654" y="8210"/>
                </a:lnTo>
                <a:lnTo>
                  <a:pt x="24397" y="8210"/>
                </a:lnTo>
                <a:lnTo>
                  <a:pt x="24397" y="13390"/>
                </a:lnTo>
                <a:lnTo>
                  <a:pt x="23654" y="13390"/>
                </a:lnTo>
                <a:lnTo>
                  <a:pt x="23286" y="12839"/>
                </a:lnTo>
                <a:lnTo>
                  <a:pt x="21431" y="12839"/>
                </a:lnTo>
                <a:lnTo>
                  <a:pt x="21431" y="14125"/>
                </a:lnTo>
                <a:lnTo>
                  <a:pt x="11797" y="14125"/>
                </a:lnTo>
                <a:lnTo>
                  <a:pt x="11797" y="9873"/>
                </a:lnTo>
                <a:lnTo>
                  <a:pt x="11614" y="9873"/>
                </a:lnTo>
                <a:lnTo>
                  <a:pt x="11229" y="10240"/>
                </a:lnTo>
                <a:lnTo>
                  <a:pt x="10310" y="1024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219320" y="1030320"/>
            <a:ext cx="6172200" cy="5251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228600"/>
            <a:ext cx="65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想一想下列读数后果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17080" y="6265800"/>
            <a:ext cx="863280" cy="692280"/>
          </a:xfrm>
          <a:custGeom>
            <a:avLst/>
            <a:gdLst>
              <a:gd name="textAreaLeft" fmla="*/ 43200 w 863280"/>
              <a:gd name="textAreaRight" fmla="*/ 820080 w 863280"/>
              <a:gd name="textAreaTop" fmla="*/ 43200 h 692280"/>
              <a:gd name="textAreaBottom" fmla="*/ 649080 h 69228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83" y="1350"/>
                </a:lnTo>
                <a:lnTo>
                  <a:pt x="1350" y="135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83" y="20250"/>
                </a:lnTo>
                <a:lnTo>
                  <a:pt x="25583" y="135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583" y="2025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33" h="21600">
                <a:moveTo>
                  <a:pt x="6423" y="10800"/>
                </a:moveTo>
                <a:lnTo>
                  <a:pt x="20510" y="3756"/>
                </a:lnTo>
                <a:lnTo>
                  <a:pt x="2051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11280" y="765000"/>
            <a:ext cx="799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m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m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种规格的量筒，如果要量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m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水，选择哪种量筒较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508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读数时，只读出小数点后一位，如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4m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5.3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63040" y="2205000"/>
            <a:ext cx="1198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宋体"/>
              </a:rPr>
              <a:t>10m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487440"/>
            <a:ext cx="525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(3)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用滴管取少量液体药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193560" y="1066680"/>
            <a:ext cx="2579760" cy="2277360"/>
            <a:chOff x="3193560" y="1066680"/>
            <a:chExt cx="2579760" cy="227736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3193560" y="1066680"/>
              <a:ext cx="2579760" cy="186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707640" y="28843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用滴管取少量的液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04920" y="1371600"/>
            <a:ext cx="914040" cy="1677240"/>
            <a:chOff x="304920" y="1371600"/>
            <a:chExt cx="914040" cy="1677240"/>
          </a:xfrm>
        </p:grpSpPr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304920" y="1371600"/>
              <a:ext cx="914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67720" y="2589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滴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676520" y="1371600"/>
            <a:ext cx="809280" cy="1654200"/>
            <a:chOff x="1676520" y="1371600"/>
            <a:chExt cx="809280" cy="165420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1676520" y="1371600"/>
              <a:ext cx="8092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802880" y="2566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滴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365160" y="1143000"/>
            <a:ext cx="2320560" cy="1995120"/>
            <a:chOff x="6365160" y="1143000"/>
            <a:chExt cx="2320560" cy="1995120"/>
          </a:xfrm>
        </p:grpSpPr>
        <p:pic>
          <p:nvPicPr>
            <p:cNvPr id="239" name="" descr=""/>
            <p:cNvPicPr/>
            <p:nvPr/>
          </p:nvPicPr>
          <p:blipFill>
            <a:blip r:embed="rId5"/>
            <a:stretch/>
          </p:blipFill>
          <p:spPr>
            <a:xfrm>
              <a:off x="6365160" y="1143000"/>
              <a:ext cx="2320560" cy="160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743880" y="26784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用后的滴管的放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04920" y="3581280"/>
            <a:ext cx="8381880" cy="113004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【注意事项】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滴管时，滴管不能伸入容器内，也不能接触容器内壁，应垂直于容器正上方。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液后的滴管应保持橡胶胶帽在上，不要平放或倒放。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用过的滴管要立即用清水冲洗干净（滴瓶上的滴管不用冲洗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692280"/>
            <a:ext cx="792360" cy="288720"/>
          </a:xfrm>
          <a:custGeom>
            <a:avLst/>
            <a:gdLst>
              <a:gd name="textAreaLeft" fmla="*/ 18000 w 792360"/>
              <a:gd name="textAreaRight" fmla="*/ 774360 w 792360"/>
              <a:gd name="textAreaTop" fmla="*/ 18000 h 288720"/>
              <a:gd name="textAreaBottom" fmla="*/ 270720 h 288720"/>
            </a:gdLst>
            <a:ahLst/>
            <a:rect l="textAreaLeft" t="textAreaTop" r="textAreaRight" b="textAreaBottom"/>
            <a:pathLst>
              <a:path w="59232" h="21600">
                <a:moveTo>
                  <a:pt x="0" y="0"/>
                </a:moveTo>
                <a:lnTo>
                  <a:pt x="59232" y="0"/>
                </a:lnTo>
                <a:lnTo>
                  <a:pt x="59232" y="21600"/>
                </a:lnTo>
                <a:lnTo>
                  <a:pt x="0" y="21600"/>
                </a:lnTo>
                <a:close/>
              </a:path>
              <a:path fill="lightenLess" w="59232" h="21600">
                <a:moveTo>
                  <a:pt x="0" y="0"/>
                </a:moveTo>
                <a:lnTo>
                  <a:pt x="59232" y="0"/>
                </a:lnTo>
                <a:lnTo>
                  <a:pt x="57882" y="1350"/>
                </a:lnTo>
                <a:lnTo>
                  <a:pt x="1350" y="1350"/>
                </a:lnTo>
                <a:close/>
              </a:path>
              <a:path fill="darken" w="59232" h="21600">
                <a:moveTo>
                  <a:pt x="59232" y="0"/>
                </a:moveTo>
                <a:lnTo>
                  <a:pt x="59232" y="21600"/>
                </a:lnTo>
                <a:lnTo>
                  <a:pt x="57882" y="20250"/>
                </a:lnTo>
                <a:lnTo>
                  <a:pt x="57882" y="1350"/>
                </a:lnTo>
                <a:close/>
              </a:path>
              <a:path fill="darkenLess" w="59232" h="21600">
                <a:moveTo>
                  <a:pt x="592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7882" y="20250"/>
                </a:lnTo>
                <a:close/>
              </a:path>
              <a:path fill="lighten" w="592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9232" h="21600">
                <a:moveTo>
                  <a:pt x="22572" y="7283"/>
                </a:moveTo>
                <a:lnTo>
                  <a:pt x="23491" y="7283"/>
                </a:lnTo>
                <a:lnTo>
                  <a:pt x="23876" y="7650"/>
                </a:lnTo>
                <a:lnTo>
                  <a:pt x="33133" y="7650"/>
                </a:lnTo>
                <a:lnTo>
                  <a:pt x="33693" y="8210"/>
                </a:lnTo>
                <a:lnTo>
                  <a:pt x="33693" y="8761"/>
                </a:lnTo>
                <a:lnTo>
                  <a:pt x="35548" y="8761"/>
                </a:lnTo>
                <a:lnTo>
                  <a:pt x="35916" y="8210"/>
                </a:lnTo>
                <a:lnTo>
                  <a:pt x="36660" y="8210"/>
                </a:lnTo>
                <a:lnTo>
                  <a:pt x="36660" y="13390"/>
                </a:lnTo>
                <a:lnTo>
                  <a:pt x="35916" y="13390"/>
                </a:lnTo>
                <a:lnTo>
                  <a:pt x="35548" y="12839"/>
                </a:lnTo>
                <a:lnTo>
                  <a:pt x="33693" y="12839"/>
                </a:lnTo>
                <a:lnTo>
                  <a:pt x="33693" y="14125"/>
                </a:lnTo>
                <a:lnTo>
                  <a:pt x="24060" y="14125"/>
                </a:lnTo>
                <a:lnTo>
                  <a:pt x="24060" y="9873"/>
                </a:lnTo>
                <a:lnTo>
                  <a:pt x="23876" y="9873"/>
                </a:lnTo>
                <a:lnTo>
                  <a:pt x="23491" y="10240"/>
                </a:lnTo>
                <a:lnTo>
                  <a:pt x="22572" y="1024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442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，给物质加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260280"/>
            <a:ext cx="576000" cy="216000"/>
          </a:xfrm>
          <a:custGeom>
            <a:avLst/>
            <a:gdLst>
              <a:gd name="textAreaLeft" fmla="*/ 13320 w 576000"/>
              <a:gd name="textAreaRight" fmla="*/ 562680 w 57600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57540" h="21600">
                <a:moveTo>
                  <a:pt x="0" y="0"/>
                </a:moveTo>
                <a:lnTo>
                  <a:pt x="57540" y="0"/>
                </a:lnTo>
                <a:lnTo>
                  <a:pt x="57540" y="21600"/>
                </a:lnTo>
                <a:lnTo>
                  <a:pt x="0" y="21600"/>
                </a:lnTo>
                <a:close/>
              </a:path>
              <a:path fill="lightenLess" w="57540" h="21600">
                <a:moveTo>
                  <a:pt x="0" y="0"/>
                </a:moveTo>
                <a:lnTo>
                  <a:pt x="57540" y="0"/>
                </a:lnTo>
                <a:lnTo>
                  <a:pt x="56190" y="1350"/>
                </a:lnTo>
                <a:lnTo>
                  <a:pt x="1350" y="1350"/>
                </a:lnTo>
                <a:close/>
              </a:path>
              <a:path fill="darken" w="57540" h="21600">
                <a:moveTo>
                  <a:pt x="57540" y="0"/>
                </a:moveTo>
                <a:lnTo>
                  <a:pt x="57540" y="21600"/>
                </a:lnTo>
                <a:lnTo>
                  <a:pt x="56190" y="20250"/>
                </a:lnTo>
                <a:lnTo>
                  <a:pt x="56190" y="1350"/>
                </a:lnTo>
                <a:close/>
              </a:path>
              <a:path fill="darkenLess" w="57540" h="21600">
                <a:moveTo>
                  <a:pt x="5754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190" y="20250"/>
                </a:lnTo>
                <a:close/>
              </a:path>
              <a:path fill="lighten" w="5754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7540" h="21600">
                <a:moveTo>
                  <a:pt x="21726" y="7283"/>
                </a:moveTo>
                <a:lnTo>
                  <a:pt x="22645" y="7283"/>
                </a:lnTo>
                <a:lnTo>
                  <a:pt x="23030" y="7650"/>
                </a:lnTo>
                <a:lnTo>
                  <a:pt x="32288" y="7650"/>
                </a:lnTo>
                <a:lnTo>
                  <a:pt x="32848" y="8210"/>
                </a:lnTo>
                <a:lnTo>
                  <a:pt x="32848" y="8761"/>
                </a:lnTo>
                <a:lnTo>
                  <a:pt x="34703" y="8761"/>
                </a:lnTo>
                <a:lnTo>
                  <a:pt x="35070" y="8210"/>
                </a:lnTo>
                <a:lnTo>
                  <a:pt x="35814" y="8210"/>
                </a:lnTo>
                <a:lnTo>
                  <a:pt x="35814" y="13390"/>
                </a:lnTo>
                <a:lnTo>
                  <a:pt x="35070" y="13390"/>
                </a:lnTo>
                <a:lnTo>
                  <a:pt x="34703" y="12839"/>
                </a:lnTo>
                <a:lnTo>
                  <a:pt x="32848" y="12839"/>
                </a:lnTo>
                <a:lnTo>
                  <a:pt x="32848" y="14125"/>
                </a:lnTo>
                <a:lnTo>
                  <a:pt x="23214" y="14125"/>
                </a:lnTo>
                <a:lnTo>
                  <a:pt x="23214" y="9873"/>
                </a:lnTo>
                <a:lnTo>
                  <a:pt x="23030" y="9873"/>
                </a:lnTo>
                <a:lnTo>
                  <a:pt x="22645" y="10240"/>
                </a:lnTo>
                <a:lnTo>
                  <a:pt x="21726" y="1024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019560" cy="2303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84360" y="692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酒精灯的使用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57336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酒精灯时，要注意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绝对禁止向燃着的酒精灯里添加酒精，以免失火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绝对禁止用酒精灯引燃另一盏酒精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用完酒精灯后，必须用灯帽盖灭，不可用嘴去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不要碰倒酒精灯，万一洒出的酒精在桌上燃烧起来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要惊慌，应立刻用湿抹布扑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rcRect l="9745" t="0" r="8938" b="5489"/>
          <a:stretch/>
        </p:blipFill>
        <p:spPr>
          <a:xfrm>
            <a:off x="6443640" y="0"/>
            <a:ext cx="27003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3520" y="442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，给物质加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以直接加热的仪器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试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蒸发皿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燃烧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422100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加热时应垫上石棉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烧杯、烧瓶、锥形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1170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33520" y="546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一想下列哪种加热方法是正确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6320" y="1197000"/>
            <a:ext cx="9067680" cy="5111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52280" y="4730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观察下图，想一想使用酒精灯应注意什么事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4200 w 684360"/>
              <a:gd name="textAreaRight" fmla="*/ 650160 w 68436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55" y="1350"/>
                </a:lnTo>
                <a:lnTo>
                  <a:pt x="1350" y="135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55" y="20250"/>
                </a:lnTo>
                <a:lnTo>
                  <a:pt x="25555" y="135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555" y="2025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05" h="21600">
                <a:moveTo>
                  <a:pt x="9935" y="10800"/>
                </a:moveTo>
                <a:lnTo>
                  <a:pt x="20496" y="3756"/>
                </a:lnTo>
                <a:lnTo>
                  <a:pt x="20496" y="17844"/>
                </a:lnTo>
                <a:close/>
              </a:path>
              <a:path fill="darken" w="26905" h="21600">
                <a:moveTo>
                  <a:pt x="6409" y="3756"/>
                </a:moveTo>
                <a:lnTo>
                  <a:pt x="8080" y="3756"/>
                </a:lnTo>
                <a:lnTo>
                  <a:pt x="8080" y="17844"/>
                </a:lnTo>
                <a:lnTo>
                  <a:pt x="640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115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9640" y="9079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绝对禁止向燃着的酒精灯添加酒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16970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绝对禁止用燃着的酒精灯去点燃另一只酒精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0654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熄灭酒精灯应用灯帽盖灭，不可用嘴去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43988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万一不慎碰倒酒精灯，应用湿抹布扑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301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4211640" cy="35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427640" y="0"/>
            <a:ext cx="4716360" cy="299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8" name=""/>
          <p:cNvSpPr/>
          <p:nvPr/>
        </p:nvSpPr>
        <p:spPr>
          <a:xfrm>
            <a:off x="4500720" y="6021360"/>
            <a:ext cx="647640" cy="216000"/>
          </a:xfrm>
          <a:custGeom>
            <a:avLst/>
            <a:gdLst>
              <a:gd name="textAreaLeft" fmla="*/ 13320 w 647640"/>
              <a:gd name="textAreaRight" fmla="*/ 634320 w 64764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342" y="1350"/>
                </a:lnTo>
                <a:lnTo>
                  <a:pt x="1350" y="135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342" y="20250"/>
                </a:lnTo>
                <a:lnTo>
                  <a:pt x="63342" y="135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342" y="2025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4692" h="21600">
                <a:moveTo>
                  <a:pt x="25302" y="7283"/>
                </a:moveTo>
                <a:lnTo>
                  <a:pt x="26221" y="7283"/>
                </a:lnTo>
                <a:lnTo>
                  <a:pt x="26606" y="7650"/>
                </a:lnTo>
                <a:lnTo>
                  <a:pt x="35864" y="7650"/>
                </a:lnTo>
                <a:lnTo>
                  <a:pt x="36424" y="8210"/>
                </a:lnTo>
                <a:lnTo>
                  <a:pt x="36424" y="8761"/>
                </a:lnTo>
                <a:lnTo>
                  <a:pt x="38279" y="8761"/>
                </a:lnTo>
                <a:lnTo>
                  <a:pt x="38646" y="8210"/>
                </a:lnTo>
                <a:lnTo>
                  <a:pt x="39390" y="8210"/>
                </a:lnTo>
                <a:lnTo>
                  <a:pt x="39390" y="13390"/>
                </a:lnTo>
                <a:lnTo>
                  <a:pt x="38646" y="13390"/>
                </a:lnTo>
                <a:lnTo>
                  <a:pt x="38279" y="12839"/>
                </a:lnTo>
                <a:lnTo>
                  <a:pt x="36424" y="12839"/>
                </a:lnTo>
                <a:lnTo>
                  <a:pt x="36424" y="14125"/>
                </a:lnTo>
                <a:lnTo>
                  <a:pt x="26790" y="14125"/>
                </a:lnTo>
                <a:lnTo>
                  <a:pt x="26790" y="9873"/>
                </a:lnTo>
                <a:lnTo>
                  <a:pt x="26606" y="9873"/>
                </a:lnTo>
                <a:lnTo>
                  <a:pt x="26221" y="10240"/>
                </a:lnTo>
                <a:lnTo>
                  <a:pt x="25302" y="1024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讨论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1268280"/>
            <a:ext cx="820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加热试管里的液体时能否将试管口对着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6560" y="2503440"/>
            <a:ext cx="81378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不能，防止液体外溅伤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3500280"/>
            <a:ext cx="828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试管外壁有水能否直接加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519440"/>
            <a:ext cx="828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不能，防止试管受热不均使试管破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00" y="765000"/>
            <a:ext cx="828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热的试管可否直接放在冷水中冲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989000"/>
            <a:ext cx="828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不能，热的试管遇冷水容易破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429000"/>
            <a:ext cx="828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如何给试管预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4448160"/>
            <a:ext cx="828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来回移动酒精灯使试管均匀受热或移动酒精灯使试管受热均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843280" y="1159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907920"/>
            <a:ext cx="81360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酒精不超过容积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分之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液体不超过试管容积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分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与桌面成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手不要拿试管夹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短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外壁有水，加热前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擦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加热后不能马上用冷水冲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预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试管口不要对着自己或旁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5280" y="90792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加热时，试管底部不要突然接触灯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试管夹要由下往上，夹在试管的中上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7343640" cy="3268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447920" y="3808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，玻璃仪器的洗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371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判别仪器干净方法：仪器上附着的水既不聚成水滴也不成股流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567640" y="6408720"/>
            <a:ext cx="684360" cy="549360"/>
          </a:xfrm>
          <a:custGeom>
            <a:avLst/>
            <a:gdLst>
              <a:gd name="textAreaLeft" fmla="*/ 34200 w 684360"/>
              <a:gd name="textAreaRight" fmla="*/ 650160 w 68436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55" y="1350"/>
                </a:lnTo>
                <a:lnTo>
                  <a:pt x="1350" y="135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55" y="20250"/>
                </a:lnTo>
                <a:lnTo>
                  <a:pt x="25555" y="135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555" y="2025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05" h="21600">
                <a:moveTo>
                  <a:pt x="9935" y="10800"/>
                </a:moveTo>
                <a:lnTo>
                  <a:pt x="20496" y="3756"/>
                </a:lnTo>
                <a:lnTo>
                  <a:pt x="20496" y="17844"/>
                </a:lnTo>
                <a:close/>
              </a:path>
              <a:path fill="darken" w="26905" h="21600">
                <a:moveTo>
                  <a:pt x="6409" y="3756"/>
                </a:moveTo>
                <a:lnTo>
                  <a:pt x="8080" y="3756"/>
                </a:lnTo>
                <a:lnTo>
                  <a:pt x="8080" y="17844"/>
                </a:lnTo>
                <a:lnTo>
                  <a:pt x="640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62064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34" h="21600">
                <a:moveTo>
                  <a:pt x="10223" y="7283"/>
                </a:moveTo>
                <a:lnTo>
                  <a:pt x="11142" y="7283"/>
                </a:lnTo>
                <a:lnTo>
                  <a:pt x="11527" y="7650"/>
                </a:lnTo>
                <a:lnTo>
                  <a:pt x="20785" y="7650"/>
                </a:lnTo>
                <a:lnTo>
                  <a:pt x="21345" y="8210"/>
                </a:lnTo>
                <a:lnTo>
                  <a:pt x="21345" y="8761"/>
                </a:lnTo>
                <a:lnTo>
                  <a:pt x="23200" y="8761"/>
                </a:lnTo>
                <a:lnTo>
                  <a:pt x="23567" y="8210"/>
                </a:lnTo>
                <a:lnTo>
                  <a:pt x="24311" y="8210"/>
                </a:lnTo>
                <a:lnTo>
                  <a:pt x="24311" y="13390"/>
                </a:lnTo>
                <a:lnTo>
                  <a:pt x="23567" y="13390"/>
                </a:lnTo>
                <a:lnTo>
                  <a:pt x="23200" y="12839"/>
                </a:lnTo>
                <a:lnTo>
                  <a:pt x="21345" y="12839"/>
                </a:lnTo>
                <a:lnTo>
                  <a:pt x="21345" y="14125"/>
                </a:lnTo>
                <a:lnTo>
                  <a:pt x="11711" y="14125"/>
                </a:lnTo>
                <a:lnTo>
                  <a:pt x="11711" y="9873"/>
                </a:lnTo>
                <a:lnTo>
                  <a:pt x="11527" y="9873"/>
                </a:lnTo>
                <a:lnTo>
                  <a:pt x="11142" y="10240"/>
                </a:lnTo>
                <a:lnTo>
                  <a:pt x="10223" y="1024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0000" y="549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常用仪器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1484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应容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2565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夹持试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06920" y="3429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搅拌、过滤、引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00000" y="1413000"/>
            <a:ext cx="2592360" cy="3738240"/>
            <a:chOff x="900000" y="1413000"/>
            <a:chExt cx="2592360" cy="3738240"/>
          </a:xfrm>
        </p:grpSpPr>
        <p:sp>
          <p:nvSpPr>
            <p:cNvPr id="284" name=""/>
            <p:cNvSpPr/>
            <p:nvPr/>
          </p:nvSpPr>
          <p:spPr>
            <a:xfrm>
              <a:off x="1116000" y="14130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试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0000" y="255456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试管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0000" y="350064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玻璃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0000" y="450864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酒精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284720" y="44434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7280" y="162864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00360" y="270828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45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27280" y="458136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64000" y="1197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配制溶液、反应容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8360" y="2276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取和滴加少量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24360" y="364500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量取一定体积的 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68360" y="1197000"/>
            <a:ext cx="3311640" cy="4242960"/>
            <a:chOff x="468360" y="1197000"/>
            <a:chExt cx="3311640" cy="4242960"/>
          </a:xfrm>
        </p:grpSpPr>
        <p:sp>
          <p:nvSpPr>
            <p:cNvPr id="297" name=""/>
            <p:cNvSpPr/>
            <p:nvPr/>
          </p:nvSpPr>
          <p:spPr>
            <a:xfrm>
              <a:off x="971640" y="1197000"/>
              <a:ext cx="23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烧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360" y="227664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胶头滴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71640" y="3500640"/>
              <a:ext cx="23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量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8720" y="479736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集气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564000" y="480384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集或贮存少量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68360" y="141300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56000" y="234936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27280" y="3716280"/>
            <a:ext cx="1008000" cy="4320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56000" y="4869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8713800" cy="5587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1258920" y="3284640"/>
            <a:ext cx="586908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5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作业：《中华一题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P  9~1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med">
    <p:wheel spokes="8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579240"/>
            <a:ext cx="788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西】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规范实验操作是实验成功的基础，以下操作不规范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14300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380880"/>
            <a:ext cx="84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北京】下列是一些常用的危险品图标，装运浓硫酸的箱子应贴的图标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8153640" cy="3962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91440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5181480"/>
            <a:ext cx="8458200" cy="6426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注意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要遵守实验规则，注意安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3243240" cy="41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733920" y="960480"/>
            <a:ext cx="5105160" cy="368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733920" cy="30477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96216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04920" y="11282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吉林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学习化学我们要经常做实验。根据你的经验判断在实验室中的下列四个操作中正确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43600" y="1676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22076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荆州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7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酒精灯的灯焰由内到外分为三个部分，按照温度由高到低的顺序排列依次为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过滤是除去液体中混有的固体物质的一种方法，在过滤装置中，要用到的玻璃仪器主要有三种，它们分别是：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609480" y="2514600"/>
            <a:ext cx="7924680" cy="3048120"/>
            <a:chOff x="609480" y="2514600"/>
            <a:chExt cx="7924680" cy="3048120"/>
          </a:xfrm>
        </p:grpSpPr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609480" y="2514600"/>
              <a:ext cx="36576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"/>
            <a:stretch/>
          </p:blipFill>
          <p:spPr>
            <a:xfrm>
              <a:off x="4343400" y="2514600"/>
              <a:ext cx="419076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270000" y="8539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庆】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）下图所表示的操作中正确的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填字母序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1219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4920" y="225396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柳州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现有蒸发皿、胶头滴管、集气瓶、量筒、托盘天平几种仪器，要完成下列实验，请选择一种必须用到的仪器填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门，取用一定体积的液体药品须用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称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g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食盐须用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食盐水蒸发结晶须用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向稀硫酸中滴加紫色石蕊试液须用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990720" y="731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连云港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 下列实验操作正确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95480" y="1143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257387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梅州）下列图示实验操作中，正确的是（      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0920" y="189000"/>
            <a:ext cx="2340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习：</a:t>
            </a:r>
            <a:endParaRPr b="1" i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01080" cy="1728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596360" y="126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37893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宾）下列是取出少量固体粉末并装入试管进行加热的过程，各步操作中正确的是（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55640" y="4797360"/>
            <a:ext cx="7416720" cy="1656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932360" y="4149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沈阳）下图所示的实验操作中正确的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         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272360" cy="1800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596360" y="54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31417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长沙）下列实验基本操作正确的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  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7345440" cy="1727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77080" y="3141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40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8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淄博）在化学实验中，若需取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蒸馏水，下列最合适的仪器是 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量筒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托盘天平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量筒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m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烧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200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武汉市科学竞赛初赛）下列使用酒精灯的方法中错误的是（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前先向酒精灯里添满酒精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燃时不能用燃着的酒精灯引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酒精灯外焰加热物质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灯帽盖灭酒精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08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苏州）下列实验操作不当的是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将烧碱放在已知质量的烧杯里用托盘天平称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将试管夹从试管底部往上套，夹在试管的中上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振荡试管时．用手紧握试管，拇指堵住试管口，上下晃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滴加液体时，滴瓶滴管的尖端不能触及已加过其它试剂的试管内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3640" y="692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860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2133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1981080" cy="1552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95880" y="3429000"/>
            <a:ext cx="2438640" cy="1778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010280" y="152280"/>
            <a:ext cx="2133720" cy="174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248520" y="5402160"/>
            <a:ext cx="1523880" cy="1455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724280" y="12193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2971800" y="3200400"/>
            <a:ext cx="2743200" cy="2000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590920" y="109224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80880" y="107316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152280" y="5257800"/>
            <a:ext cx="2438640" cy="1479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352680" y="53341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7010280" y="2133720"/>
            <a:ext cx="1943280" cy="1199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Hi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，以后会常见面，请记住我好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6120" y="2565360"/>
            <a:ext cx="68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试管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7360" y="4724280"/>
            <a:ext cx="93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集气瓶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71600" y="4038480"/>
            <a:ext cx="68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量筒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3505320"/>
            <a:ext cx="609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试剂瓶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8760" y="6262560"/>
            <a:ext cx="93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试管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12840" y="6262560"/>
            <a:ext cx="93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玻璃棒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3120" y="5943600"/>
            <a:ext cx="93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石棉网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8480" y="2590920"/>
            <a:ext cx="68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水槽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227160"/>
            <a:ext cx="685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华文行楷"/>
                <a:ea typeface="楷体_GB2312"/>
              </a:rPr>
              <a:t>铁架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4200" y="2703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酒精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764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烧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380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79640" y="2811600"/>
            <a:ext cx="1003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药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63920" y="981000"/>
            <a:ext cx="13683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石棉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9880" y="1325520"/>
            <a:ext cx="1295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蒸发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692280"/>
            <a:ext cx="1368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坩埚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1268280"/>
            <a:ext cx="13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锥形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765000"/>
            <a:ext cx="15825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长颈漏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3270240"/>
            <a:ext cx="9367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漏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08720" y="4724280"/>
            <a:ext cx="936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量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03640" y="5157720"/>
            <a:ext cx="93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烧杯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3429000"/>
            <a:ext cx="149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胶头滴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9240" y="371628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铁架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437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试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22936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酒精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5734080"/>
            <a:ext cx="129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水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5084640"/>
            <a:ext cx="129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方正姚体"/>
              </a:rPr>
              <a:t>集气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333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一、常见仪器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3284640"/>
            <a:ext cx="194292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228600"/>
            <a:ext cx="4778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一、药品的取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958680"/>
            <a:ext cx="3733920" cy="642600"/>
          </a:xfrm>
          <a:prstGeom prst="rect">
            <a:avLst/>
          </a:prstGeom>
          <a:solidFill>
            <a:srgbClr val="333399"/>
          </a:solidFill>
          <a:ln w="76320">
            <a:solidFill>
              <a:srgbClr val="99cc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药品取用的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600200"/>
            <a:ext cx="8610480" cy="23994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三不”原则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用时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用手接触药品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要把鼻孔凑到容器口去闻药品的气味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得尝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任何药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味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节约原则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按规定用量取用。若没有说明用量，一般取最少量：液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~2mL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固体只需盖满试管底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处理原则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实验用剩的药品既不能放回原瓶，也不要丢弃，更不能带出实验室，要放在指定的容器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609480"/>
            <a:ext cx="426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Ⅰ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固体药品的取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477120" y="762120"/>
            <a:ext cx="2361960" cy="167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9" name=""/>
          <p:cNvSpPr/>
          <p:nvPr/>
        </p:nvSpPr>
        <p:spPr>
          <a:xfrm>
            <a:off x="304920" y="1554120"/>
            <a:ext cx="3962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(1)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块状药品的取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4267080"/>
            <a:ext cx="3124080" cy="1572120"/>
            <a:chOff x="304920" y="4267080"/>
            <a:chExt cx="3124080" cy="1572120"/>
          </a:xfrm>
        </p:grpSpPr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609840" y="4267080"/>
              <a:ext cx="20383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04920" y="4770360"/>
              <a:ext cx="3124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横放容器，把药品放在容器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86200" y="2665440"/>
            <a:ext cx="4724280" cy="3202560"/>
            <a:chOff x="3886200" y="2665440"/>
            <a:chExt cx="4724280" cy="3202560"/>
          </a:xfrm>
        </p:grpSpPr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6629400" y="2665440"/>
              <a:ext cx="533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4114800" y="3808440"/>
              <a:ext cx="20480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86200" y="4799160"/>
              <a:ext cx="4724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把容器慢慢竖立起来，使药品顺着器壁滑到底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29528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429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一横二放三慢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2133720"/>
            <a:ext cx="576360" cy="287280"/>
          </a:xfrm>
          <a:custGeom>
            <a:avLst/>
            <a:gdLst>
              <a:gd name="textAreaLeft" fmla="*/ 17640 w 576360"/>
              <a:gd name="textAreaRight" fmla="*/ 558720 w 57636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58" y="1350"/>
                </a:lnTo>
                <a:lnTo>
                  <a:pt x="1350" y="135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58" y="20250"/>
                </a:lnTo>
                <a:lnTo>
                  <a:pt x="41958" y="135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958" y="2025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308" h="21600">
                <a:moveTo>
                  <a:pt x="14610" y="7283"/>
                </a:moveTo>
                <a:lnTo>
                  <a:pt x="15529" y="7283"/>
                </a:lnTo>
                <a:lnTo>
                  <a:pt x="15914" y="7650"/>
                </a:lnTo>
                <a:lnTo>
                  <a:pt x="25172" y="7650"/>
                </a:lnTo>
                <a:lnTo>
                  <a:pt x="25732" y="8210"/>
                </a:lnTo>
                <a:lnTo>
                  <a:pt x="25732" y="8761"/>
                </a:lnTo>
                <a:lnTo>
                  <a:pt x="27587" y="8761"/>
                </a:lnTo>
                <a:lnTo>
                  <a:pt x="27954" y="8210"/>
                </a:lnTo>
                <a:lnTo>
                  <a:pt x="28698" y="8210"/>
                </a:lnTo>
                <a:lnTo>
                  <a:pt x="28698" y="13390"/>
                </a:lnTo>
                <a:lnTo>
                  <a:pt x="27954" y="13390"/>
                </a:lnTo>
                <a:lnTo>
                  <a:pt x="27587" y="12839"/>
                </a:lnTo>
                <a:lnTo>
                  <a:pt x="25732" y="12839"/>
                </a:lnTo>
                <a:lnTo>
                  <a:pt x="25732" y="14125"/>
                </a:lnTo>
                <a:lnTo>
                  <a:pt x="16098" y="14125"/>
                </a:lnTo>
                <a:lnTo>
                  <a:pt x="16098" y="9873"/>
                </a:lnTo>
                <a:lnTo>
                  <a:pt x="15914" y="9873"/>
                </a:lnTo>
                <a:lnTo>
                  <a:pt x="15529" y="10240"/>
                </a:lnTo>
                <a:lnTo>
                  <a:pt x="14610" y="1024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792000"/>
            <a:ext cx="434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粉末状药品的取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9480" y="4076640"/>
            <a:ext cx="8001000" cy="1649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2120" y="1989000"/>
            <a:ext cx="7315200" cy="58140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斜二送三直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981000"/>
            <a:ext cx="433440" cy="287280"/>
          </a:xfrm>
          <a:custGeom>
            <a:avLst/>
            <a:gdLst>
              <a:gd name="textAreaLeft" fmla="*/ 17640 w 433440"/>
              <a:gd name="textAreaRight" fmla="*/ 415800 w 43344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226" y="1350"/>
                </a:lnTo>
                <a:lnTo>
                  <a:pt x="1350" y="135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226" y="20250"/>
                </a:lnTo>
                <a:lnTo>
                  <a:pt x="31226" y="135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226" y="2025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576" h="21600">
                <a:moveTo>
                  <a:pt x="9244" y="7283"/>
                </a:moveTo>
                <a:lnTo>
                  <a:pt x="10163" y="7283"/>
                </a:lnTo>
                <a:lnTo>
                  <a:pt x="10548" y="7650"/>
                </a:lnTo>
                <a:lnTo>
                  <a:pt x="19805" y="7650"/>
                </a:lnTo>
                <a:lnTo>
                  <a:pt x="20365" y="8210"/>
                </a:lnTo>
                <a:lnTo>
                  <a:pt x="20365" y="8761"/>
                </a:lnTo>
                <a:lnTo>
                  <a:pt x="22220" y="8761"/>
                </a:lnTo>
                <a:lnTo>
                  <a:pt x="22588" y="8210"/>
                </a:lnTo>
                <a:lnTo>
                  <a:pt x="23332" y="8210"/>
                </a:lnTo>
                <a:lnTo>
                  <a:pt x="23332" y="13390"/>
                </a:lnTo>
                <a:lnTo>
                  <a:pt x="22588" y="13390"/>
                </a:lnTo>
                <a:lnTo>
                  <a:pt x="22220" y="12839"/>
                </a:lnTo>
                <a:lnTo>
                  <a:pt x="20365" y="12839"/>
                </a:lnTo>
                <a:lnTo>
                  <a:pt x="20365" y="14125"/>
                </a:lnTo>
                <a:lnTo>
                  <a:pt x="10732" y="14125"/>
                </a:lnTo>
                <a:lnTo>
                  <a:pt x="10732" y="9873"/>
                </a:lnTo>
                <a:lnTo>
                  <a:pt x="10548" y="9873"/>
                </a:lnTo>
                <a:lnTo>
                  <a:pt x="10163" y="10240"/>
                </a:lnTo>
                <a:lnTo>
                  <a:pt x="9244" y="1024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715000" y="777960"/>
            <a:ext cx="3124080" cy="2498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920" y="1447920"/>
            <a:ext cx="5257800" cy="58140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思考】 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口瓶的塞子为什么要倒放在桌子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609480"/>
            <a:ext cx="426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Ⅱ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液体药品的取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2286000"/>
            <a:ext cx="3200400" cy="7621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2819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答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防止药液污染、腐蚀桌面和避免试剂受到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114800"/>
            <a:ext cx="8763120" cy="1068840"/>
          </a:xfrm>
          <a:prstGeom prst="rect">
            <a:avLst/>
          </a:prstGeom>
          <a:noFill/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思考】 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倾倒液体时，细口瓶为什么要紧挨着试管口？应该快速倒还是缓慢地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086600" y="1905120"/>
            <a:ext cx="0" cy="228600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440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答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防止药液流出试管外。应该缓慢的倾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609480"/>
            <a:ext cx="3962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(1)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倾倒液体药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1125360"/>
            <a:ext cx="432000" cy="287640"/>
          </a:xfrm>
          <a:custGeom>
            <a:avLst/>
            <a:gdLst>
              <a:gd name="textAreaLeft" fmla="*/ 18000 w 432000"/>
              <a:gd name="textAreaRight" fmla="*/ 414360 w 432000"/>
              <a:gd name="textAreaTop" fmla="*/ 18000 h 287640"/>
              <a:gd name="textAreaBottom" fmla="*/ 270000 h 28764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77" y="1350"/>
                </a:lnTo>
                <a:lnTo>
                  <a:pt x="1350" y="135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77" y="20250"/>
                </a:lnTo>
                <a:lnTo>
                  <a:pt x="31077" y="135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77" y="2025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27" h="21600">
                <a:moveTo>
                  <a:pt x="9170" y="7283"/>
                </a:moveTo>
                <a:lnTo>
                  <a:pt x="10089" y="7283"/>
                </a:lnTo>
                <a:lnTo>
                  <a:pt x="10474" y="7650"/>
                </a:lnTo>
                <a:lnTo>
                  <a:pt x="19731" y="7650"/>
                </a:lnTo>
                <a:lnTo>
                  <a:pt x="20291" y="8210"/>
                </a:lnTo>
                <a:lnTo>
                  <a:pt x="20291" y="8761"/>
                </a:lnTo>
                <a:lnTo>
                  <a:pt x="22146" y="8761"/>
                </a:lnTo>
                <a:lnTo>
                  <a:pt x="22514" y="8210"/>
                </a:lnTo>
                <a:lnTo>
                  <a:pt x="23257" y="8210"/>
                </a:lnTo>
                <a:lnTo>
                  <a:pt x="23257" y="13390"/>
                </a:lnTo>
                <a:lnTo>
                  <a:pt x="22514" y="13390"/>
                </a:lnTo>
                <a:lnTo>
                  <a:pt x="22146" y="12839"/>
                </a:lnTo>
                <a:lnTo>
                  <a:pt x="20291" y="12839"/>
                </a:lnTo>
                <a:lnTo>
                  <a:pt x="20291" y="14125"/>
                </a:lnTo>
                <a:lnTo>
                  <a:pt x="10657" y="14125"/>
                </a:lnTo>
                <a:lnTo>
                  <a:pt x="10657" y="9873"/>
                </a:lnTo>
                <a:lnTo>
                  <a:pt x="10474" y="9873"/>
                </a:lnTo>
                <a:lnTo>
                  <a:pt x="10089" y="10240"/>
                </a:lnTo>
                <a:lnTo>
                  <a:pt x="9170" y="1024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07:22:28Z</dcterms:created>
  <dc:creator>zxg</dc:creator>
  <dc:description/>
  <dc:language>en-US</dc:language>
  <cp:lastModifiedBy>USER</cp:lastModifiedBy>
  <dcterms:modified xsi:type="dcterms:W3CDTF">2013-08-26T15:25:40Z</dcterms:modified>
  <cp:revision>1018</cp:revision>
  <dc:subject/>
  <dc:title>第一章　化学反应及其能量变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